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E455-BF9D-44B7-BA17-097CE8253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2FBF-2937-4807-88F8-0E1A1695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3892-B8B4-4E0A-B02D-10701A29D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DF40-2968-486D-A0C9-A08869D5D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1253-CF1B-4EFB-9E0A-61401542A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197E-2B57-4AF9-A45A-3FFEF9A8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7163-8B9A-4D99-B178-527BC994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B20A-FE1E-4AAA-9532-52F5FF60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03AC-3C72-4D28-A2C4-F72AA1F4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9D8F-78AD-4329-850A-A5B7769D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6CA5-1A04-42BB-B9FD-11013DF9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0FEC-76EC-48D1-BE4D-EDFD46A6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CA00-7DAC-46CA-90E1-329BC842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8159-EB44-430E-A17E-E029F5D6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9ACE-2702-4162-BBF1-267A7299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5933-716E-4E30-9F5C-DE790A2A9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C5FE-20F3-41A6-A1D2-38D6FB4F6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C44F-51D6-4266-B9AD-A6D6F9D7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34D2-218C-47DD-A7FA-5CA54390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4BD1-BEA7-4104-93C6-E4F43A8C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7FCF-5B69-4E6C-B45C-D33F11C4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EDAE-A12C-42DB-B14D-6CBC09E8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2CC1-A7DE-4756-B32A-DBD09675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F5A6-1224-4F4F-8A52-AC40ED73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77EB-E869-4508-A9D5-C2E51509ED6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8435-5E5F-4AAE-B616-6B7903C12B7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03280" y="764640"/>
            <a:ext cx="73137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Схема из источника, ключа и резистора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734364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1640" y="620280"/>
            <a:ext cx="73515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Две последовательно соединенные лампочки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1930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3280" y="6202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Схема источника, лампочки  и реостата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58920" y="1673280"/>
            <a:ext cx="6480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7:19:57Z</dcterms:created>
  <dc:creator>User</dc:creator>
  <dc:description/>
  <dc:language>en-US</dc:language>
  <cp:lastModifiedBy>User</cp:lastModifiedBy>
  <dcterms:modified xsi:type="dcterms:W3CDTF">2008-01-10T07:29:10Z</dcterms:modified>
  <cp:revision>4</cp:revision>
  <dc:subject/>
  <dc:title>Схема из источника, ключа и резистора </dc:title>
</cp:coreProperties>
</file>